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93E6-47CA-4C60-AD2B-4CADDF5BE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80769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920" y="3981600"/>
            <a:ext cx="80769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5AF6-A359-4177-A049-850781510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8648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398160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86480" y="398160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8D19F-2F58-4404-B10C-E3E4CEFC9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8880" y="175248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0200" y="175248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920" y="398160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8880" y="398160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0200" y="398160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3273-7132-4C23-8BD5-F2DE85F0E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39412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86480" y="1752480"/>
            <a:ext cx="39412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47920" y="990360"/>
            <a:ext cx="80769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86480" y="1752480"/>
            <a:ext cx="39412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920" y="398160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9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761A-8008-4A06-8DD2-86E4FDC51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39412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8648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586480" y="398160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8648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920" y="3981600"/>
            <a:ext cx="80769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80769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920" y="3981600"/>
            <a:ext cx="80769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58648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920" y="398160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86480" y="398160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78880" y="175248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10200" y="175248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920" y="398160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78880" y="398160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10200" y="398160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63EC-1188-49DC-96DF-438282349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39412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86480" y="1752480"/>
            <a:ext cx="39412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F3C4-A975-4B71-8AF3-91FC4D59F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BD83-4B1E-4627-8F4F-E01AF6512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990360"/>
            <a:ext cx="80769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A53D-05EC-48F3-B726-A39574F12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86480" y="1752480"/>
            <a:ext cx="39412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920" y="398160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F322-B695-422D-BCCB-24ED48C24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39412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8648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86480" y="398160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A2E3-263E-4573-AB6E-D56C32822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8648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920" y="3981600"/>
            <a:ext cx="80769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C801-D7EE-4514-B300-C95AAE0BB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337b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447560" y="6324120"/>
            <a:ext cx="61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b33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FB26-7197-49D3-975C-AD5515BFC7BC}" type="slidenum">
              <a:rPr b="0" lang="en-US" sz="1200" spc="-1" strike="noStrike">
                <a:solidFill>
                  <a:srgbClr val="0b337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AVORI%20IN%20CORSO:Consip:PPT:17_11_06:mef%203%20righe" descr=""/>
          <p:cNvPicPr/>
          <p:nvPr/>
        </p:nvPicPr>
        <p:blipFill>
          <a:blip r:embed="rId2"/>
          <a:stretch/>
        </p:blipFill>
        <p:spPr>
          <a:xfrm>
            <a:off x="7848720" y="193680"/>
            <a:ext cx="1676160" cy="568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09480" y="228600"/>
            <a:ext cx="1752840" cy="55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AVORI%20IN%20CORSO:Consip:PPT:cover" descr=""/>
          <p:cNvPicPr/>
          <p:nvPr/>
        </p:nvPicPr>
        <p:blipFill>
          <a:blip r:embed="rId2"/>
          <a:srcRect l="0" t="2943" r="0" b="290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438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337b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1676160" y="5448240"/>
            <a:ext cx="148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b33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EC63-128B-4A5C-8B37-34827871F091}" type="datetime">
              <a:rPr b="0" lang="it-IT" sz="1400" spc="-1" strike="noStrike">
                <a:solidFill>
                  <a:srgbClr val="0b337b"/>
                </a:solidFill>
                <a:latin typeface="Trebuchet MS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5105520"/>
            <a:ext cx="1898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b337b"/>
                </a:solidFill>
                <a:latin typeface="Trebuchet MS"/>
              </a:rPr>
              <a:t>Cit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60680" y="4343400"/>
            <a:ext cx="6188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337b"/>
                </a:solidFill>
                <a:latin typeface="Trebuchet MS"/>
              </a:rPr>
              <a:t>Relatore Nome e Cogn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LAVORI%20IN%20CORSO:Consip:PPT:17_11_06:mef%203%20righe" descr=""/>
          <p:cNvPicPr/>
          <p:nvPr/>
        </p:nvPicPr>
        <p:blipFill>
          <a:blip r:embed="rId3"/>
          <a:stretch/>
        </p:blipFill>
        <p:spPr>
          <a:xfrm>
            <a:off x="609480" y="3175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08120" y="5994360"/>
            <a:ext cx="2022480" cy="635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26668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76160" y="335268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Verdana"/>
              </a:rPr>
              <a:t>Sottotitolo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08ED03E-723C-456D-9B0F-53DCF6F557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47920" y="1752480"/>
            <a:ext cx="782640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Consip  è  una  società  per  azioni  creata  nel  1997  dal  Ministero del Tesoro (oggi Ministero dell’Economia e delle Finanze, MEF), che ne è azionista unico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La sua </a:t>
            </a:r>
            <a:r>
              <a:rPr b="1" i="1" lang="it-IT" sz="1800" spc="-1" strike="noStrike">
                <a:solidFill>
                  <a:srgbClr val="000000"/>
                </a:solidFill>
                <a:latin typeface="Trebuchet MS"/>
              </a:rPr>
              <a:t>missione</a:t>
            </a:r>
            <a:r>
              <a:rPr b="0" i="1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è quella di fornire servizi di consulenza e di assistenza progettuale, organizzativa, tecnologica per l’innovazione del MEF e delle altre strutture della Pubblica Amministrazion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Trebuchet MS"/>
              </a:rPr>
              <a:t>vision aziendale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, “A fianco della PA che cambia”, racchiude l’essenza del compito svolto dall’Azienda: Consip è un partner al servizio della Pubblica Amministrazione italiana e la accompagna nel suo cammino verso la modernizzazione, contribuendo a migliorare il rapporto tra PA, cittadini e impres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337b"/>
                </a:solidFill>
                <a:latin typeface="Trebuchet MS"/>
              </a:rPr>
              <a:t>Profilo aziendale</a:t>
            </a: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pic>
        <p:nvPicPr>
          <p:cNvPr id="89" name="LAVORI%20IN%20CORSO:Consip:flash01" descr=""/>
          <p:cNvPicPr/>
          <p:nvPr/>
        </p:nvPicPr>
        <p:blipFill>
          <a:blip r:embed="rId1"/>
          <a:srcRect l="1493" t="0" r="1493" b="0"/>
          <a:stretch/>
        </p:blipFill>
        <p:spPr>
          <a:xfrm>
            <a:off x="0" y="5462640"/>
            <a:ext cx="9906120" cy="139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188B-7D3C-463C-BA8F-3911C00B57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337b"/>
                </a:solidFill>
                <a:latin typeface="Trebuchet MS"/>
              </a:rPr>
              <a:t>Attività</a:t>
            </a: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pic>
        <p:nvPicPr>
          <p:cNvPr id="91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34120"/>
            <a:ext cx="9906120" cy="1523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79689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Due sono le aree di attività Consip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gestione e sviluppo dei </a:t>
            </a: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servizi informatici per il MEF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(area Economia e Corte dei conti), attraverso un’attività di consulenza tecnica, organizzativa e progettuale, che investe i sistemi informativi del Ministero e le attività in materia finanziaria e contabile (l’ottimizzazione dei processi, l’introduzione di tecnologie più moderne nella gestione, la razionalizzazione e il coordinamento della spesa per l’Information Technology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realizzazione del </a:t>
            </a: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Programma di razionalizzazione della spesa pubblica per beni e servizi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, che si basa sull’utilizzo di tecnologie informatiche e di modalità innovative per gli acquisti delle amministrazioni (convenzioni per l’acquisto di beni e servizi, le gare telematiche, il Mercato Elettronico della Pubblica Amministrazione – MEPA - e i progetti speciali e di consulenza specifica alle amministrazioni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AE77-7CBC-4096-831B-62D49DFC3C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337b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pic>
        <p:nvPicPr>
          <p:cNvPr id="94" name="LAVORI%20IN%20CORSO:Consip:flash03" descr=""/>
          <p:cNvPicPr/>
          <p:nvPr/>
        </p:nvPicPr>
        <p:blipFill>
          <a:blip r:embed="rId1">
            <a:lum contrast="6000"/>
          </a:blip>
          <a:srcRect l="1879" t="0" r="44696" b="24200"/>
          <a:stretch/>
        </p:blipFill>
        <p:spPr>
          <a:xfrm>
            <a:off x="0" y="5108400"/>
            <a:ext cx="6705720" cy="1749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46120" y="988920"/>
            <a:ext cx="7871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337b"/>
                </a:solidFill>
                <a:latin typeface="Trebuchet MS"/>
              </a:rPr>
              <a:t>Met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6120" y="1752480"/>
            <a:ext cx="78710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Consip offre servizi di consulenza e progettazione. L’Azienda si occupa dell’ideazione strategica dei progetti, avendo maturato competenze di alto livello sull’organizzazione, i processi e i sistemi informativi della 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Le fasi realizzative dei progetti vengono svolte ricercando sul mercato le soluzioni più idonee alle esigenze delle PA. Consip è dunque anche “amministrazione aggiudicatrice” che definisce, realizza e aggiudica gare d’appalto per conto delle amministrazio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Consip conta su un organico di circa 500 persone, di cui il 44% donne. Più della metà sono impegnate nelle attività di supporto all’evoluzione informatica del MEF e un terzo nel Programma di razionalizzazione della spesa per beni e servizi delle PA. L’età media è inferiore ai 40 an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Tutta l’azione di Consip si basa sui valori dell’</a:t>
            </a: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innovazione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, della </a:t>
            </a: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trasparenza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, della </a:t>
            </a: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competenza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e della </a:t>
            </a: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concorrenza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DFA00-2AFB-4752-9CF5-098A5F900B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47560" y="1752480"/>
            <a:ext cx="753732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pic>
        <p:nvPicPr>
          <p:cNvPr id="99" name="LAVORI%20IN%20CORSO:Consip:flash01" descr=""/>
          <p:cNvPicPr/>
          <p:nvPr/>
        </p:nvPicPr>
        <p:blipFill>
          <a:blip r:embed="rId1"/>
          <a:srcRect l="1493" t="0" r="1493" b="0"/>
          <a:stretch/>
        </p:blipFill>
        <p:spPr>
          <a:xfrm>
            <a:off x="0" y="5462640"/>
            <a:ext cx="9906120" cy="139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9456-5FBD-465D-88B7-C16E030B7E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pic>
        <p:nvPicPr>
          <p:cNvPr id="101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34120"/>
            <a:ext cx="9906120" cy="1523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6859-8D06-49B7-B5D0-BE631CF4F3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337b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pic>
        <p:nvPicPr>
          <p:cNvPr id="104" name="LAVORI%20IN%20CORSO:Consip:flash03" descr=""/>
          <p:cNvPicPr/>
          <p:nvPr/>
        </p:nvPicPr>
        <p:blipFill>
          <a:blip r:embed="rId1">
            <a:lum contrast="6000"/>
          </a:blip>
          <a:srcRect l="1879" t="0" r="44696" b="24200"/>
          <a:stretch/>
        </p:blipFill>
        <p:spPr>
          <a:xfrm>
            <a:off x="0" y="5108400"/>
            <a:ext cx="6705720" cy="1749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92160" y="836640"/>
            <a:ext cx="7870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2160" y="1484280"/>
            <a:ext cx="78706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2AE7-94C8-4986-AE3B-F04072649B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1:20:28Z</dcterms:created>
  <dc:creator>mnd</dc:creator>
  <dc:description/>
  <dc:language>en-US</dc:language>
  <cp:lastModifiedBy> </cp:lastModifiedBy>
  <cp:lastPrinted>2006-09-12T16:34:06Z</cp:lastPrinted>
  <dcterms:modified xsi:type="dcterms:W3CDTF">2007-09-20T09:04:22Z</dcterms:modified>
  <cp:revision>34</cp:revision>
  <dc:subject/>
  <dc:title>Il mercato elettronico della P.A.</dc:title>
</cp:coreProperties>
</file>